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C8F-2F1B-42C6-A857-2028FD35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834-30ED-4376-AE4B-5E22515C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3924-F8AA-40F3-83DC-35382FCE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1F32-53A5-4362-AA15-BFE820BF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835B-70FA-4779-A5FE-2E93EF64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014-B2D5-4D3F-B4FF-FDC97FAB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AB71-26E1-48CE-B64C-39C3C972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52A-6034-4F73-BE76-ADFF1D4B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BD24-FB9E-4959-B2BD-C917700F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4E40-0089-4618-AF65-AB60631B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E7F1-6897-4D39-82D4-CB0EC38B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4879-7C5F-4E35-B1A0-2419C280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760B-174B-4AC0-B913-B4D187FBD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ent Day Russ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Magdalena, Jennifer, and J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’s old communist government didn’t do much for the government. They gave out lots of dirty smoke and dumped poisons into rivers and la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lso polluted the air, water, and l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Russia is using nuclear energy plants. Even though they don’t pollute the air, they leave dangerous by-produ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are some pictures showing these environmental problems in Russ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Expect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’s pollution also has caused rising cancer and falling life expectancy in the count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most people are suffering from lung diseases. This shows that Russia’s population is becoming less health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Things About Present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 has followed the United States 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37:52Z</dcterms:created>
  <dc:creator> </dc:creator>
  <dc:description/>
  <dc:language>en-US</dc:language>
  <cp:lastModifiedBy> </cp:lastModifiedBy>
  <dcterms:modified xsi:type="dcterms:W3CDTF">2010-12-14T14:00:20Z</dcterms:modified>
  <cp:revision>4</cp:revision>
  <dc:subject/>
  <dc:title>Present Day Russia</dc:title>
</cp:coreProperties>
</file>